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879-08D9-4CCF-A481-5C418A9C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3EA-8CA9-4E68-8B55-7FD20A82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5A7-4C47-4054-9F01-CFFBD03D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58F-E4AE-4D5D-9733-A53CAAF9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68D-99DA-4DD7-89D6-019AAD32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B7F-DAEA-4476-BAE3-D6FAB34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9E7-4943-432F-B673-86AF578F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CCD-5938-44A4-8132-35686945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2B6-CAE9-43D6-B8BD-45925F5F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5BF-FD25-4392-AA58-2BEEE50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A15-5871-4C67-BCD7-F20786A5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53C-634F-4652-8A58-5907343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4B8C-7972-4A3D-8DDA-5DFFB1EB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0" y="548640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2819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971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ve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71800" y="1219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ffect of the (IV) on th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95480" y="18288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eft colu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581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iddle colum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895480" y="2666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971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819520" y="4110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43200" y="4648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rials together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by the #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281952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Statement:  Why is it important to have a good data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0" y="1600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1676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743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highest data point and the lowest dat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____________________ on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676520"/>
          <a:ext cx="9144000" cy="4221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712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ienc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ata table for the data below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 person had 3 trials.  Include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= Height of person throwing free th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:  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0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 = # of free throws made in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Measurement: # of baskets 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(each person tried 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6 ft made 5, then 7 and the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½ ft made 6, then 4, and the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ft made 2, then 4, and th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Sj00746720000[1].wav" descr=""/>
          <p:cNvPicPr/>
          <p:nvPr/>
        </p:nvPicPr>
        <p:blipFill>
          <a:blip r:embed="rId1"/>
          <a:stretch/>
        </p:blipFill>
        <p:spPr>
          <a:xfrm>
            <a:off x="80773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krose\Local Settings\Temporary Internet Files\Content.IE5\9SLX7TH3\MMAG00422_0000[1].gif"/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1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3520" y="1600200"/>
          <a:ext cx="8153280" cy="4309920"/>
        </p:xfrm>
        <a:graphic>
          <a:graphicData uri="http://schemas.openxmlformats.org/drawingml/2006/table">
            <a:tbl>
              <a:tblPr/>
              <a:tblGrid>
                <a:gridCol w="1358640"/>
                <a:gridCol w="1359000"/>
                <a:gridCol w="1359000"/>
                <a:gridCol w="1360440"/>
                <a:gridCol w="1357200"/>
                <a:gridCol w="1359000"/>
              </a:tblGrid>
              <a:tr h="126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ount of Chemi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 to Lose Extra Anten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828800"/>
          <a:ext cx="9144000" cy="4321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Chem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Time to Lose Extra Antennae (day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" descr="pink bug.jpg"/>
          <p:cNvPicPr/>
          <p:nvPr/>
        </p:nvPicPr>
        <p:blipFill>
          <a:blip r:embed="rId1"/>
          <a:stretch/>
        </p:blipFill>
        <p:spPr>
          <a:xfrm>
            <a:off x="7924680" y="380880"/>
            <a:ext cx="990720" cy="101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30492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hart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8:01:08Z</dcterms:created>
  <dc:creator>itsuser</dc:creator>
  <dc:description/>
  <dc:language>en-US</dc:language>
  <cp:lastModifiedBy>Jean Kavanagh</cp:lastModifiedBy>
  <dcterms:modified xsi:type="dcterms:W3CDTF">2010-09-03T18:28:57Z</dcterms:modified>
  <cp:revision>44</cp:revision>
  <dc:subject/>
  <dc:title>Slide 1</dc:title>
</cp:coreProperties>
</file>